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032-1A6C-4D0E-8381-2DC7B48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7B7-A5F8-4A66-9173-8D14142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1B65E-8E8C-4223-8D3C-14CDACE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6E81-279D-4F6B-80A0-80D3EAC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F8963-748E-4658-BF89-95613FE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B6C4-987C-4DEE-A105-2C417C5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C806-FF27-41E4-BEA7-4FF00E3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8302-B9EB-44EE-88C0-A745C45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EC91D-7553-4F91-9961-C296BF3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1BDA7-BF1E-4D72-9509-D6CD2D25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7B548-E795-4A75-A2A9-B0BE02F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B19C5-75D5-4114-BAA2-559A2794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67C-0C42-4D9C-94A8-1D6AEF9F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51ED-0C76-4ED6-8D0E-80EF62C1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E6EAC-01F6-478B-A1B6-20B8B95B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35BC8-A572-4202-952C-BC4F93A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87611-9DF9-492F-A6CF-2169F68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B53C7-9462-485C-88FE-DEF36D14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02629-C4D3-4768-84AA-F342092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2C8EF-0C2E-4B52-8B7B-53F45C9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416C3-C4C4-4960-844C-6A75DC7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A48B4-6757-499B-83CD-3A4B4C9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0398-5E02-4D84-B958-26AF4A43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DEE-24D3-4EEE-A4A3-C9A8DDEA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E3F7-ED02-43A0-8238-F293B0B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7153B-D89C-458F-8097-3BC27BBE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4ED1E-5130-41BC-B50F-0BA8260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0F49-2F84-4C6E-84E5-A76665E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1E2BB-0BEB-4F8C-943B-3D1BB50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2BF47-D8FD-49B6-88AD-073743C4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3018A-C6C7-4B21-9F98-8921893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AC24-11D0-44FF-89E3-9ACC475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48B1-ACBD-4A54-BA5F-4248CA9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25A77-8931-4536-859E-CE19C8A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7FBA-70FD-4F52-87BE-21FA99F3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244B7-289E-4562-8DB9-39977ABD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6798-9E88-446E-94DB-689B22F6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09C1A-14E8-407F-BAA8-837B7C8A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9A4C2-71B6-408F-853E-C6DCC60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5035-BE26-451B-B366-3183F274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4E51F-F7A8-48B6-AE9A-CB3F684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3AD26-2FD2-4259-82D6-C7047B15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62ABB-1D59-44A1-8BD6-759E801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0B526-5D7F-4D26-8D47-0533DBB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F0FF4-C40D-4155-A309-869608A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34F1-F70E-46BC-AE8E-A967CF7C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36EA4-33BC-4DD8-BFB7-248C1B0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4BBDB-87AE-46AB-A651-C9F4D79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B361-3013-4F24-B099-45A7975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4A02D-606F-4424-9E96-628BC82E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B2BCE-6045-4792-B3D8-AF4D05B6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7DEA-ED82-46DB-B89D-4F6E860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B66-B2C7-4F5C-9CBB-2F63056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E091-EC7E-4EFA-862C-DBCD2E8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6308-C57B-4F14-9DF3-FDF33C57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3C3A-7D41-4828-A12D-C9B4C83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9AF-5BE5-4FB2-9937-A2498FE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0AE5-5ABD-4D3E-A188-3C2EF6A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4D26-C734-4E8C-B1BC-6ECF96F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F39-3817-494D-A6CB-555A922F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9E64-AC16-49DD-8602-A72613E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4BF-89D4-4B3B-9B3B-3211EE4B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4609-9E42-470F-AC79-302683FB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7284-547F-428B-B1CA-ABC48C4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8758-CCB2-4138-9A92-23D6771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3775-55E4-40D7-8050-6D84413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F69E-3A0E-4765-AEE6-F22164B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834-6D1C-429E-8BD3-35A4B414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B0AA-8CED-438D-9F3F-559F187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9AA2-E781-4868-B438-0428B74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65C7-2388-4DE2-90F8-BB271375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52D8-7D10-4C72-8FFE-780DF0A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5F06-B240-4641-AD10-2440399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3C49-0D97-465F-98EF-0BC4838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9E2C-D48C-4513-8A7A-ABC43EFC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3403-0802-403D-B5DE-068F3048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113B-2A91-448A-A28B-09A7C8A6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06284-E191-4AFC-9087-707BC8C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086-4758-4AE6-978C-2F259AB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E37C-16AF-438D-8098-80F33DEE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C3A0-3D6C-48A2-AEA2-51E9011B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55EA-C34C-4AB3-B024-DC0025D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060D-845C-4276-925D-BB2D92B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9209-3E9A-4AC4-BC84-1EE8BC47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ED5B-96BB-4533-B948-A70FBD1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FA7C-2639-4421-A0F4-EE8B49E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A26A-AC8A-4D21-9B59-587C763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CD92-4F26-41EF-B251-A5413A8C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5BB0-D13D-42C0-86CF-0B288C7E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41F-43E8-41A7-AC58-742890E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FB02-56E2-4B65-B7A8-A9ED545A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A4DB-49F8-4F0D-97F2-F748FE6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C513-64C7-441D-8E6E-4B5FDF87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E2A5-7AB3-4371-A892-48C1107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6E2B-54E1-4238-9B7E-BEBC766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C670-1DCA-4F51-BD02-E87C1DE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3C84-DFCB-408B-9539-8F18D12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2B28-2F23-4545-A540-641F8C7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85DA-3D4D-4932-8182-C59775B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2E851-4D58-419D-8DB0-91F3A816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4B4-979D-4172-AFB8-A2D5A44B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5815-CEE7-4B48-A2B0-34F208A4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DE5BF-2A05-4918-9664-26E14A4C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86E2-4858-40B3-BD5F-9EC45E8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9F4E-DA2F-43E4-A3FA-8A40106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43C6-0BBF-4757-B591-7ADEAD2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599D-1EC2-467A-A1C0-695EB8E4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1635-F230-4054-BFA0-24F3AC0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2BE6-E0AD-4D3E-A5C6-87AB099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8FF9-41E8-442E-A30F-5E67B60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3A83-93DB-4BB3-AFBD-CDB7216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FF4-9B2A-4165-9BD6-6B2BF3B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6D97-5FFE-4F8C-835E-6B1692C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5BA2-EB0A-462B-BDC6-C96ED5E8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A29C-B209-41FB-B384-61F7C8E4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C588-2511-4029-AE35-85E40758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8391-640C-4F01-AD2F-FE18048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28A4-CD77-4D49-B08F-833AF33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74BCD-2BBD-41F2-BC66-C4195648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CB40D-C224-44C4-BFAD-FA50DCD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846D-468E-4DA8-9026-1B6ECF13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0839-0B5B-4619-9CF5-BC6DC26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B23-5D60-4A45-AA4A-2A7D6EA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0B43-FD68-4216-9FC5-AE35FDB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9768-1159-42FD-B979-C7D57F2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5650-143D-40FD-AA93-D2E31E9B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3C97-3552-4C4B-9F37-9F07FA3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2307-DEE8-4E12-8B89-9908FFA9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6CD18-3F87-4113-8A44-6F3D25D0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CCED-7D03-4C44-94FC-794CB88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F444-3178-4CEA-AB4B-4FC5E6CE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A3DB-899F-43BA-9DD1-100E5B6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29A2-3EE3-4FAE-A15A-292BCD0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C64-92E5-44A9-9097-EB167E9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A9275-E075-4E8D-A613-CA8AE9F9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90792-03A5-4C4F-939A-D510DE0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CB61-E681-4067-B243-521A7AE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1F37-C344-489D-92D8-33D00AB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98F3-3959-4A0F-B59B-6119A31C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77DE-61D1-48AB-9F14-5BDB30FE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D7EF-9C62-4B3E-AB87-3B368F1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622C8-A0FD-414D-A7BD-C749E983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8BB2B-BB95-4E50-8DB8-2308B170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E4016-092B-42E3-93CE-69E4EC3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420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9421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9421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9421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9421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9421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9421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7372-2011-47BD-B0DC-28580A8F0B7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205-799E-4230-9E37-C4FB641DF68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033-F49D-4603-8FD8-4B938BA452E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A22-8B56-4939-8283-01021D000D8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9523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9523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952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9523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9523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952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9523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9D1D-2EB3-4FFD-A0BF-B212D3A04C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684-E9E3-4D19-8B0F-FFA9E468DA5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7A9-D9F6-4493-8983-B42D31B4D1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BF43-92B1-474B-9CCB-2A036E37CC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C998-E625-4374-8D8F-6837269D9F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769-4C78-4B61-AAA4-2A478FEB55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CFA-B978-4322-8FFE-D89C7DF3AF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2D8-327C-446B-989E-0C2C931B85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8193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30725"/>
          <p:cNvSpPr/>
          <p:nvPr/>
        </p:nvSpPr>
        <p:spPr>
          <a:xfrm>
            <a:off x="3660840" y="351000"/>
            <a:ext cx="257796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一、教学要求 ：</a:t>
            </a:r>
            <a:br>
              <a:rPr sz="32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理解课文内容，从蔺相如为了国家利益，对敌不畏强暴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机智勇敢，对友胸怀宽广、忍辱退让的好品质中受到启发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和教育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在理解课文内容的基础上，从课文中找到依据评价人物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学习本课的生字新词，理解重点词语的意思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复述“负荆请罪”这个故事。 </a:t>
            </a:r>
            <a:br>
              <a:rPr sz="2400"/>
            </a:b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二、教学重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：</a:t>
            </a:r>
            <a:br>
              <a:rPr sz="32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理解三个故事的原因和结果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了解三个故事之间的联系。 </a:t>
            </a:r>
            <a:br>
              <a:rPr sz="2400"/>
            </a:br>
            <a:br>
              <a:rPr sz="2400"/>
            </a:b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64513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文本框 64514"/>
          <p:cNvSpPr/>
          <p:nvPr/>
        </p:nvSpPr>
        <p:spPr>
          <a:xfrm>
            <a:off x="6319080" y="1069920"/>
            <a:ext cx="18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将”指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相”指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64511"/>
          <p:cNvSpPr/>
          <p:nvPr/>
        </p:nvSpPr>
        <p:spPr>
          <a:xfrm>
            <a:off x="7589520" y="206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64512"/>
          <p:cNvSpPr/>
          <p:nvPr/>
        </p:nvSpPr>
        <p:spPr>
          <a:xfrm>
            <a:off x="7639200" y="90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廉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64515"/>
          <p:cNvSpPr/>
          <p:nvPr/>
        </p:nvSpPr>
        <p:spPr>
          <a:xfrm>
            <a:off x="7380360" y="162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直接连接符 64516"/>
          <p:cNvSpPr/>
          <p:nvPr/>
        </p:nvSpPr>
        <p:spPr>
          <a:xfrm>
            <a:off x="7380360" y="27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文本框 27649"/>
          <p:cNvSpPr/>
          <p:nvPr/>
        </p:nvSpPr>
        <p:spPr>
          <a:xfrm>
            <a:off x="838080" y="646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蔺相如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: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事件能深思熟虑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随机应变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秦王不顾生死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敢于斗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廉颇能顾全大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忍辱退让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切以国家利益为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因为他为维护赵国利益一再立下功劳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先后被封为上大夫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上卿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文本框 26625"/>
          <p:cNvSpPr/>
          <p:nvPr/>
        </p:nvSpPr>
        <p:spPr>
          <a:xfrm>
            <a:off x="4678560" y="100656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廉颇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能服从赵王的调遣带兵奔赴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边界作好抵御秦兵的准备，使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王不敢轻举妄动，虽然计较个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得失和蔺相如闹不团结，但知错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就改，并负荆上蔺相如府上请罪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性格坦率。此后能和蔺相如一起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同心协力保卫赵国。                     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17409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文本框 17410"/>
          <p:cNvSpPr/>
          <p:nvPr/>
        </p:nvSpPr>
        <p:spPr>
          <a:xfrm>
            <a:off x="6347520" y="1069920"/>
            <a:ext cx="251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将”指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廉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相”指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蔺相如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”的意思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从“和”字可以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推想出什么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直接连接符 47103"/>
          <p:cNvSpPr/>
          <p:nvPr/>
        </p:nvSpPr>
        <p:spPr>
          <a:xfrm>
            <a:off x="7380360" y="162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47108"/>
          <p:cNvSpPr/>
          <p:nvPr/>
        </p:nvSpPr>
        <p:spPr>
          <a:xfrm>
            <a:off x="6284520" y="3952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同心协力，保卫赵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20481"/>
          <p:cNvSpPr/>
          <p:nvPr/>
        </p:nvSpPr>
        <p:spPr>
          <a:xfrm>
            <a:off x="2199960" y="1387440"/>
            <a:ext cx="571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这个故事发生在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候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主要讲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三个故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20482"/>
          <p:cNvSpPr/>
          <p:nvPr/>
        </p:nvSpPr>
        <p:spPr>
          <a:xfrm>
            <a:off x="4932000" y="141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战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20483"/>
          <p:cNvSpPr/>
          <p:nvPr/>
        </p:nvSpPr>
        <p:spPr>
          <a:xfrm>
            <a:off x="3413160" y="2406600"/>
            <a:ext cx="25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完璧归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20484"/>
          <p:cNvSpPr/>
          <p:nvPr/>
        </p:nvSpPr>
        <p:spPr>
          <a:xfrm>
            <a:off x="672984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渑池相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20485"/>
          <p:cNvSpPr/>
          <p:nvPr/>
        </p:nvSpPr>
        <p:spPr>
          <a:xfrm>
            <a:off x="220032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负荆请罪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43009"/>
          <p:cNvSpPr/>
          <p:nvPr/>
        </p:nvSpPr>
        <p:spPr>
          <a:xfrm>
            <a:off x="1811160" y="44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回答问题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55300"/>
          <p:cNvSpPr/>
          <p:nvPr/>
        </p:nvSpPr>
        <p:spPr>
          <a:xfrm>
            <a:off x="1510920" y="836640"/>
            <a:ext cx="64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完壁归赵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接连接符 55301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直接连接符 55302"/>
          <p:cNvSpPr/>
          <p:nvPr/>
        </p:nvSpPr>
        <p:spPr>
          <a:xfrm>
            <a:off x="684360" y="292428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直接连接符 55303"/>
          <p:cNvSpPr/>
          <p:nvPr/>
        </p:nvSpPr>
        <p:spPr>
          <a:xfrm>
            <a:off x="2124000" y="4221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文本框 55304"/>
          <p:cNvSpPr/>
          <p:nvPr/>
        </p:nvSpPr>
        <p:spPr>
          <a:xfrm>
            <a:off x="1680480" y="981000"/>
            <a:ext cx="60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依仗强势，要骗取宝玉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文本框 55305"/>
          <p:cNvSpPr/>
          <p:nvPr/>
        </p:nvSpPr>
        <p:spPr>
          <a:xfrm>
            <a:off x="3540240" y="34354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宝玉完好无损地回到了赵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6145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他理直气壮地说：“我看您并不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交付十五个城，所以把和氏璧拿了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来。您要是强逼我，我的脑袋和璧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一块儿撞碎在这柱子上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39937"/>
          <p:cNvSpPr/>
          <p:nvPr/>
        </p:nvSpPr>
        <p:spPr>
          <a:xfrm>
            <a:off x="3584160" y="549360"/>
            <a:ext cx="20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下面的话可以看出蔺相如是怎样一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个人？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15361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他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理直气壮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地说：“我看您并不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交付十五个城，所以把和氏璧拿了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来。您要是强逼我，我的脑袋和璧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一块儿撞碎在这柱子上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文本框 38913"/>
          <p:cNvSpPr/>
          <p:nvPr/>
        </p:nvSpPr>
        <p:spPr>
          <a:xfrm>
            <a:off x="3584160" y="549360"/>
            <a:ext cx="20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下面的话可以看出蔺相如是怎样一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个人？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38914"/>
          <p:cNvSpPr/>
          <p:nvPr/>
        </p:nvSpPr>
        <p:spPr>
          <a:xfrm>
            <a:off x="4312800" y="573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敢机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文本框 38915"/>
          <p:cNvSpPr/>
          <p:nvPr/>
        </p:nvSpPr>
        <p:spPr>
          <a:xfrm>
            <a:off x="2709360" y="5772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4098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到了举行典礼那一天，蔺相如进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见了秦王，大大方方地说：“和氏璧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经送回赵国去了。您如果有诚意的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先把十五个城叫给我国，我国马上把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和氏璧送来，决不失信。不然，您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了我也没用，天下的人都知道秦国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从来不讲信用的！”秦王没有办法，只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得客客气气地送蔺相如回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：将相产生矛盾的原因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廉颇很不服气，他对别人说：“我廉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攻无不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战无不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立下许多大功。他蔺相如有什么能耐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就靠一张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反而爬到我头上去了。我碰见他，得给他个下不了台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16385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到了举行典礼那一天，蔺相如进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见了秦王，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大大方方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地说：“和氏璧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经送回赵国去了。您如果有诚意的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先把十五个城叫给我国，我国马上把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和氏璧送来，决不失信。不然，您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了我也没用，天下的人都知道秦国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从来不讲信用的！”秦王没有办法，只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得客客气气地送蔺相如回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文本框 36865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文本框 36866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不畏强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5122"/>
          <p:cNvSpPr/>
          <p:nvPr/>
        </p:nvSpPr>
        <p:spPr>
          <a:xfrm>
            <a:off x="1890720" y="239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课堂练习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5124"/>
          <p:cNvSpPr/>
          <p:nvPr/>
        </p:nvSpPr>
        <p:spPr>
          <a:xfrm>
            <a:off x="1720080" y="1844640"/>
            <a:ext cx="62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1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蔺相如之所以说这块璧有点儿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毛病，骗回和氏璧，是因为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—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——————————————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文本框 35840"/>
          <p:cNvSpPr/>
          <p:nvPr/>
        </p:nvSpPr>
        <p:spPr>
          <a:xfrm>
            <a:off x="2874960" y="37749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看出秦王的骗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文本框 1025"/>
          <p:cNvSpPr/>
          <p:nvPr/>
        </p:nvSpPr>
        <p:spPr>
          <a:xfrm>
            <a:off x="2694960" y="1263600"/>
            <a:ext cx="514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 用上“之所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……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因为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…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联系“完璧归赵”这个故事说一句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71681"/>
          <p:cNvSpPr/>
          <p:nvPr/>
        </p:nvSpPr>
        <p:spPr>
          <a:xfrm>
            <a:off x="2651400" y="941400"/>
            <a:ext cx="503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“</a:t>
            </a:r>
            <a:r>
              <a:rPr b="0" i="1" lang="zh-CN" sz="6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渑池相会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上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赵两国是打了平手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还是分出了胜负？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66562"/>
          <p:cNvSpPr/>
          <p:nvPr/>
        </p:nvSpPr>
        <p:spPr>
          <a:xfrm>
            <a:off x="1465920" y="1125360"/>
            <a:ext cx="683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渑池相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，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直接连接符 66563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直接连接符 66564"/>
          <p:cNvSpPr/>
          <p:nvPr/>
        </p:nvSpPr>
        <p:spPr>
          <a:xfrm>
            <a:off x="684360" y="299736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直接连接符 66565"/>
          <p:cNvSpPr/>
          <p:nvPr/>
        </p:nvSpPr>
        <p:spPr>
          <a:xfrm>
            <a:off x="2124000" y="4149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66566"/>
          <p:cNvSpPr/>
          <p:nvPr/>
        </p:nvSpPr>
        <p:spPr>
          <a:xfrm>
            <a:off x="1572840" y="981000"/>
            <a:ext cx="5950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约赵王在渑池相会，想占赵国便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66567"/>
          <p:cNvSpPr/>
          <p:nvPr/>
        </p:nvSpPr>
        <p:spPr>
          <a:xfrm>
            <a:off x="2871720" y="3435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吃亏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1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67588"/>
          <p:cNvSpPr/>
          <p:nvPr/>
        </p:nvSpPr>
        <p:spPr>
          <a:xfrm>
            <a:off x="2449440" y="173664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渑池相会”可以看出蔺相如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一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67589"/>
          <p:cNvSpPr/>
          <p:nvPr/>
        </p:nvSpPr>
        <p:spPr>
          <a:xfrm>
            <a:off x="4198320" y="27874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敢、随机应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65539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65540"/>
          <p:cNvSpPr/>
          <p:nvPr/>
        </p:nvSpPr>
        <p:spPr>
          <a:xfrm>
            <a:off x="1695960" y="566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3300"/>
                </a:solidFill>
                <a:uFillTx/>
                <a:latin typeface="Verdana"/>
                <a:ea typeface="华文行楷"/>
              </a:rPr>
              <a:t>负荆请罪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70657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文本框 70658"/>
          <p:cNvSpPr/>
          <p:nvPr/>
        </p:nvSpPr>
        <p:spPr>
          <a:xfrm>
            <a:off x="1465920" y="620640"/>
            <a:ext cx="683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负荆请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，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直接连接符 70659"/>
          <p:cNvSpPr/>
          <p:nvPr/>
        </p:nvSpPr>
        <p:spPr>
          <a:xfrm>
            <a:off x="7164360" y="119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直接连接符 70660"/>
          <p:cNvSpPr/>
          <p:nvPr/>
        </p:nvSpPr>
        <p:spPr>
          <a:xfrm>
            <a:off x="2268360" y="3645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70661"/>
          <p:cNvSpPr/>
          <p:nvPr/>
        </p:nvSpPr>
        <p:spPr>
          <a:xfrm>
            <a:off x="1475280" y="549360"/>
            <a:ext cx="62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廉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看到蔺相如职位比自己高，很不服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70662"/>
          <p:cNvSpPr/>
          <p:nvPr/>
        </p:nvSpPr>
        <p:spPr>
          <a:xfrm>
            <a:off x="2943000" y="2859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负荆请罪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1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文本框 69631"/>
          <p:cNvSpPr/>
          <p:nvPr/>
        </p:nvSpPr>
        <p:spPr>
          <a:xfrm>
            <a:off x="1929600" y="981000"/>
            <a:ext cx="49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“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完璧归赵”、“渑池相会”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与“负荆请罪”之间有什么联系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69632"/>
          <p:cNvSpPr/>
          <p:nvPr/>
        </p:nvSpPr>
        <p:spPr>
          <a:xfrm>
            <a:off x="599760" y="399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69633"/>
          <p:cNvSpPr/>
          <p:nvPr/>
        </p:nvSpPr>
        <p:spPr>
          <a:xfrm>
            <a:off x="3054960" y="3919680"/>
            <a:ext cx="462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三个故事各有情节，但又紧密联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渑池相会”是“完璧归赵” 的发展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完璧归赵”和“渑池相会”的结果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 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负荆请罪” 的起因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文本框 68607"/>
          <p:cNvSpPr/>
          <p:nvPr/>
        </p:nvSpPr>
        <p:spPr>
          <a:xfrm>
            <a:off x="1649160" y="907920"/>
            <a:ext cx="5991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蔺相如对廉颇的傲慢无礼是怎么做的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他为什么要这样做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68608"/>
          <p:cNvSpPr/>
          <p:nvPr/>
        </p:nvSpPr>
        <p:spPr>
          <a:xfrm>
            <a:off x="723600" y="3848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68609"/>
          <p:cNvSpPr/>
          <p:nvPr/>
        </p:nvSpPr>
        <p:spPr>
          <a:xfrm>
            <a:off x="3116160" y="37749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避让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避让廉颇并非害怕他，而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为了国家利益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的话，站在蔺相如的角度看，还那么有道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文本框 77823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77824"/>
          <p:cNvSpPr/>
          <p:nvPr/>
        </p:nvSpPr>
        <p:spPr>
          <a:xfrm>
            <a:off x="2321280" y="1736640"/>
            <a:ext cx="557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负荆请罪”可以看出蔺相如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一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77825"/>
          <p:cNvSpPr/>
          <p:nvPr/>
        </p:nvSpPr>
        <p:spPr>
          <a:xfrm>
            <a:off x="3283200" y="29401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  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以国家利益为重，顾大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识大体，胸怀宽广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直接连接符 77826"/>
          <p:cNvSpPr/>
          <p:nvPr/>
        </p:nvSpPr>
        <p:spPr>
          <a:xfrm>
            <a:off x="2050920" y="350028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1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3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3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75775"/>
          <p:cNvSpPr/>
          <p:nvPr/>
        </p:nvSpPr>
        <p:spPr>
          <a:xfrm>
            <a:off x="1912320" y="981000"/>
            <a:ext cx="5142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廉颇为什么向蔺相如负荆请罪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75776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文本框 75777"/>
          <p:cNvSpPr/>
          <p:nvPr/>
        </p:nvSpPr>
        <p:spPr>
          <a:xfrm>
            <a:off x="1952280" y="2997360"/>
            <a:ext cx="481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负荆请罪”可以看出廉颇是一个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75778"/>
          <p:cNvSpPr/>
          <p:nvPr/>
        </p:nvSpPr>
        <p:spPr>
          <a:xfrm>
            <a:off x="1599480" y="40640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于改过，以国利益为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74751"/>
          <p:cNvSpPr/>
          <p:nvPr/>
        </p:nvSpPr>
        <p:spPr>
          <a:xfrm>
            <a:off x="2506320" y="1258920"/>
            <a:ext cx="496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作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复述“负荆请罪”这个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故事给家长听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蔺相如说：“秦王我都不怕，会怕廉将军吗？大家知道，秦王不敢进攻我们赵国，就因为武有廉颇，文有蔺相如。如果我们两闹不和，就会削弱赵国的力量，秦国必然乘机来打我们。我所以避着廉将军，为的是我们赵国呀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事实上，廉颇没有当着蔺相如的面说这番话的，而蔺相如也无法对廉颇当面说清楚。这该怎么办呢？蔺相如有几种对策？我们分析下。这些方法的优点，缺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知道自己错了，他可以有哪些做法？如果是你，你会怎么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和蔺相如闹了那么大的矛盾，为什么还能和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“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将相和”的故事给了你什么样的启发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家和万事兴，国家也是同样，一个国家既要有骁勇善战的武将，又要有能言善变的文官，大家团结一致，国家才能兴旺发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0000"/>
                </a:solidFill>
                <a:latin typeface="Arial"/>
              </a:rPr>
              <a:t>小练笔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同学们，学习了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将相和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这课，我们了解了将相之间由和到不和又到和好的经过，现在，拿起你的笔，通过一件事，写写你和同学，朋友之间团结友爱的故事，注意要写清楚前因后果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2:41:49Z</dcterms:created>
  <dc:creator/>
  <dc:description/>
  <dc:language>en-US</dc:language>
  <cp:lastModifiedBy>万润仪器贸易公司</cp:lastModifiedBy>
  <dcterms:modified xsi:type="dcterms:W3CDTF">2020-08-24T06:32:56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